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803C-CBAB-4AAD-9F25-0312401C5A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D843-2E02-4336-B81C-03C98FE246E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A6B2-2A5E-40DA-9D08-39604DB6F5D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7961-4A4E-4697-A9FB-C5B7B7C3684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14CA-18A0-4738-96C2-2A672984C54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6866-A34B-4A4C-B7BB-8F0704DD8E9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03BD-6F82-48BD-95E8-D68BB3CFB3C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08AB-6170-4B10-916B-0D7BAA42E86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DED5-3ECD-4B2F-B362-99E837E3EF2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E9A1-0756-45BF-ACBE-2A1FEE7B4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D888-24FD-425C-8398-8C8438CE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B4F2-9B31-4486-A73A-C41D752A8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7038-F97F-426C-8D1B-4945EAE83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FB63-9767-4AF2-976D-25AB4338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742A-6813-4F62-91FC-BB323409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B4F9-201D-47B4-9571-BBF31592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ED91-11E6-4364-8854-027539BA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5F7D-E4B4-4B99-ABA4-E8C489F1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D836-1354-4AAF-A261-2078EE73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2002-F0AC-45F4-B24A-E9AC8051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38F3-D110-4B95-9882-FCF991DE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AD9D-2C03-454F-98D9-EE95CD2E56B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nmsa.org/Publications/WebExclusive/Assessment/tabid/1120/Default.aspx" TargetMode="External"/><Relationship Id="rId2" Type="http://schemas.openxmlformats.org/officeDocument/2006/relationships/hyperlink" Target="http://office.microsoft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00"/>
                </a:solidFill>
                <a:latin typeface="Arial Black"/>
                <a:ea typeface="Arial"/>
              </a:rPr>
              <a:t>Pre-assessment</a:t>
            </a:r>
            <a:endParaRPr b="0" lang="en-US" sz="6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By: Heather Wagn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Wilkes Univers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EDIM 51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Arial Black"/>
                <a:ea typeface="Arial"/>
              </a:rPr>
              <a:t>What is pre-assessment?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880" y="18284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Tools used to measure what students have mastered prior to instructi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2" descr="academics,answers,classrooms,desks,iStockphoto,raised hands,rows,students,teachers,education,knowledge"/>
          <p:cNvPicPr/>
          <p:nvPr/>
        </p:nvPicPr>
        <p:blipFill>
          <a:blip r:embed="rId1"/>
          <a:stretch/>
        </p:blipFill>
        <p:spPr>
          <a:xfrm>
            <a:off x="3048120" y="3200400"/>
            <a:ext cx="28670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 Black"/>
                <a:ea typeface="Arial"/>
              </a:rPr>
              <a:t>Why pre-assess?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To find out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What students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know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about the topic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What students are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rested i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How students best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roces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inform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Arial Black"/>
                <a:ea typeface="Arial"/>
              </a:rPr>
              <a:t>Formative Assessments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Part of instruction proces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Used to adjust teaching and learn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Help to determine next ste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Occurs during instructi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Arial Black"/>
                <a:ea typeface="Arial"/>
              </a:rPr>
              <a:t>Summative Assessments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Used to gauge student learning at     a particular tim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Occurs after instructi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2" descr="academics,back to school,erasers,examinations,iStockphoto,multiple choice,pencils,schools,selections,tests"/>
          <p:cNvPicPr/>
          <p:nvPr/>
        </p:nvPicPr>
        <p:blipFill>
          <a:blip r:embed="rId1"/>
          <a:stretch/>
        </p:blipFill>
        <p:spPr>
          <a:xfrm>
            <a:off x="6048360" y="289548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 Black"/>
                <a:ea typeface="Arial"/>
              </a:rPr>
              <a:t>Formal Assessments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7521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Interest survey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Entry and Exit Ticket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Results from test or quiz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Student conferenc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713560" y="4038480"/>
            <a:ext cx="3430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Arial Black"/>
                <a:ea typeface="Arial"/>
              </a:rPr>
              <a:t>Informal Assessments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Observation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Asking question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Four Corner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Line ‘em U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Noting pattern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Picture 2" descr="academics,books,guidance,instructors,iStockphoto,schools,students,young adults,colleges,classrooms"/>
          <p:cNvPicPr/>
          <p:nvPr/>
        </p:nvPicPr>
        <p:blipFill>
          <a:blip r:embed="rId1"/>
          <a:stretch/>
        </p:blipFill>
        <p:spPr>
          <a:xfrm>
            <a:off x="6048360" y="320040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 Black"/>
                <a:ea typeface="Arial"/>
              </a:rPr>
              <a:t>Resources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Getting to Know your Students Through Pre-assessments”, From: Hempfield School Distri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Garrison, C., &amp; Ehringhaus, M. (2007). Formative and summative assessments in the classroom. Retrieved from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alibri"/>
                <a:hlinkClick r:id="rId1"/>
              </a:rPr>
              <a:t>http://www.nmsa.org/Publications/WebExclusive/Assessment/tabid/1120/Default.aspx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Images from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alibri"/>
                <a:hlinkClick r:id="rId2"/>
              </a:rPr>
              <a:t>http://office.microsoft.co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21:29:17Z</dcterms:created>
  <dc:creator>Andy</dc:creator>
  <dc:description/>
  <dc:language>en-US</dc:language>
  <cp:lastModifiedBy>Andy</cp:lastModifiedBy>
  <dcterms:modified xsi:type="dcterms:W3CDTF">2010-09-28T22:42:18Z</dcterms:modified>
  <cp:revision>9</cp:revision>
  <dc:subject/>
  <dc:title>Pre-assessment</dc:title>
</cp:coreProperties>
</file>